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1A748-69EE-4D7F-922A-BA8D7AC23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7C70-B495-43A2-BD5E-1D4C9ACFD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07FB4-4303-4E74-82FB-90229AD79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828EC-D8BD-4E2A-B97B-F6C823962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37A6F-C9D4-42EA-8CD5-8C1760FFA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0285-B43F-47FE-BFFB-5556C0BA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21EC8-2C39-47D1-B170-204244E7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D28D4-74FE-4F56-A657-FC980F433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36D9-D9E0-472C-89A4-AC64FAB5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97EE-55A8-4988-A516-116992601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2BA2-35D7-4C8B-A091-513361D43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328E-15DD-4894-AF2A-9718531B1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9BC8-B525-40B6-8341-6864E56AE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terature search and material revie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to be covered</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review of related literature</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review of related literature</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Sources for review of related literature</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for review of related liter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 the flash car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ash card is a card on any topic prepared</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esearcher during reviewing literature that</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completed after studying a source on a single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epare a flash car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reparation of flash card do following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an outline to review the material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a sourc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material on topic</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material, prepare summary or select same wording from sourc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it on your card</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mention, title, source, complete reference, text and page no.</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der flash cards and write note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view of all available sources is completed, many cards on all topics are found read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ards on same topics are arranged in an order logical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w, notes on topic can be written on pages or can be typ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topic prepare ten flash cards on topic and write note on the topic of one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review of related literatur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rocess to search all available literature on topic under investigation to get information how many studies previously have been conducted on topic? What previous studies have concluded? And What previous studies have suggested to do more on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 good review of related literature i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view of related literatur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lps to Understand nature and importance of research problem.</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historical background of problem.</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nd contrast the views of experts about the topic.</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critical review of different aspects related to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review of related literature is don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s researchers to define frontiers of their field.</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researchers to place their research questions in perspectiv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researcher to clarify and define the concepts of the study</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researcher to estimate expected results of study</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ful to formulate hypothesis for study</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researcher to set limits for work</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researcher to identify and help to avoid unintentional replication of previous studi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researcher to decide useful methodology for study</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researcher to better explain significance of the stud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Sources for review of related literature</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Journ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 Disser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str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publ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ycloped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paper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review of related literature</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dure for review of related literature includes following steps</a:t>
            </a:r>
            <a:endParaRPr b="0" lang="en-US" sz="3200" spc="-1" strike="noStrike">
              <a:solidFill>
                <a:srgbClr val="000000"/>
              </a:solidFill>
              <a:latin typeface="Arial"/>
            </a:endParaRPr>
          </a:p>
          <a:p>
            <a:pPr marL="506520" indent="-506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the sources</a:t>
            </a:r>
            <a:endParaRPr b="0" lang="en-US" sz="3200" spc="-1" strike="noStrike">
              <a:solidFill>
                <a:srgbClr val="000000"/>
              </a:solidFill>
              <a:latin typeface="Arial"/>
            </a:endParaRPr>
          </a:p>
          <a:p>
            <a:pPr marL="506520" indent="-506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sources</a:t>
            </a:r>
            <a:endParaRPr b="0" lang="en-US" sz="3200" spc="-1" strike="noStrike">
              <a:solidFill>
                <a:srgbClr val="000000"/>
              </a:solidFill>
              <a:latin typeface="Arial"/>
            </a:endParaRPr>
          </a:p>
          <a:p>
            <a:pPr marL="506520" indent="-506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he sources</a:t>
            </a:r>
            <a:endParaRPr b="0" lang="en-US" sz="3200" spc="-1" strike="noStrike">
              <a:solidFill>
                <a:srgbClr val="000000"/>
              </a:solidFill>
              <a:latin typeface="Arial"/>
            </a:endParaRPr>
          </a:p>
          <a:p>
            <a:pPr marL="506520" indent="-506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materials</a:t>
            </a:r>
            <a:endParaRPr b="0" lang="en-US" sz="3200" spc="-1" strike="noStrike">
              <a:solidFill>
                <a:srgbClr val="000000"/>
              </a:solidFill>
              <a:latin typeface="Arial"/>
            </a:endParaRPr>
          </a:p>
          <a:p>
            <a:pPr marL="506520" indent="-506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he flash cards</a:t>
            </a:r>
            <a:endParaRPr b="0" lang="en-US" sz="3200" spc="-1" strike="noStrike">
              <a:solidFill>
                <a:srgbClr val="000000"/>
              </a:solidFill>
              <a:latin typeface="Arial"/>
            </a:endParaRPr>
          </a:p>
          <a:p>
            <a:pPr marL="506520" indent="-506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 flash cards and write notes</a:t>
            </a:r>
            <a:endParaRPr b="0" lang="en-US" sz="3200" spc="-1" strike="noStrike">
              <a:solidFill>
                <a:srgbClr val="000000"/>
              </a:solidFill>
              <a:latin typeface="Arial"/>
            </a:endParaRPr>
          </a:p>
          <a:p>
            <a:pPr marL="506520" indent="-506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discussion between ci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rching of source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tage, investigator search related materials from different sources like as books, research reports, official documents, search engines etc….</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can be searched by author or by tit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two are main sources for searching related materials on topics</a:t>
            </a:r>
            <a:endParaRPr b="0" lang="en-US" sz="2400" spc="-1" strike="noStrike">
              <a:solidFill>
                <a:srgbClr val="000000"/>
              </a:solidFill>
              <a:latin typeface="Arial"/>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ies</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lated documents related to topics can be selected to review at the stag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ably, primary sources must be selected at the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of source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the source is completed by researcher to evaluate each selected  sour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 sort out the sources that are directly related to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e the sources</a:t>
            </a:r>
            <a:br>
              <a:rPr sz="4000"/>
            </a:br>
            <a:r>
              <a:rPr b="0" lang="en-US" sz="4000" spc="-1" strike="noStrike">
                <a:solidFill>
                  <a:srgbClr val="000000"/>
                </a:solidFill>
                <a:latin typeface="Arial"/>
              </a:rPr>
              <a:t>and select the required sourc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valid and reliable sources must be sel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source means the source that is directly related to your topic and match with your objectives of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ources means the sources that are error free ,originals and can be reproduces later on t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20:10:48Z</dcterms:created>
  <dc:creator>GBS</dc:creator>
  <dc:description/>
  <dc:language>en-US</dc:language>
  <cp:lastModifiedBy>EDU</cp:lastModifiedBy>
  <dcterms:modified xsi:type="dcterms:W3CDTF">2014-12-17T18:18:24Z</dcterms:modified>
  <cp:revision>134</cp:revision>
  <dc:subject/>
  <dc:title>Literature search and material review </dc:title>
</cp:coreProperties>
</file>